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BFD8D-8DAB-4A53-BFEC-D4C73F4739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B658E-39BF-4D5A-A748-EE3F41755A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28325-CABC-4CBA-BD32-753D55DBDF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B477C-0358-46EF-B8D2-31E51805A8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75FB0-7E43-4C50-BA25-47676BA9BC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253AD-8DE8-4341-AD9F-F875905224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FA6B9-BEF1-46A0-B302-B014241FDA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669C0-54B3-4DF8-B5E2-F1A1636CF0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7DA8B-B6E3-42CA-9A6F-DEEC79A485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F5B28-CE23-48D1-8B2D-63F0B350FF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EC29-2CF4-4960-A191-006202D5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630A-D303-44B1-836A-38B7308A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934B-384A-420A-A901-112AAB54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A1F5-B99D-4FC0-8295-4188EBDF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8D9A-CE12-4F76-B2D4-89EF6A85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A775-532F-488D-8624-23E11C42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7725-BC87-45FF-BAF1-6671D88B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9D04-C9F9-4442-B9A4-D2DC8D8A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677B-E293-4D65-AD2A-63C2E3BB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CE2E-6FB3-4DC2-BBE6-B582B9A9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AA8F-5D9B-4B9F-86A5-031A316F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A9EF-4370-4FC6-8677-3DC0A76F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77D7EE-E713-4F76-9079-3FCD90A08A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s.paperblog.com/perfumes-obras-maestras-en-peligro-ii-368362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260360" y="1079640"/>
            <a:ext cx="755964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1079640" y="360360"/>
            <a:ext cx="8459640" cy="54007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2879640" y="6119640"/>
            <a:ext cx="2735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ypeface or 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1440000" y="539640"/>
            <a:ext cx="2879640" cy="3060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6119640" y="720720"/>
            <a:ext cx="306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otipo/nombre del produ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6119640" y="1440000"/>
            <a:ext cx="30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otipo de la compañía o casa comercial que fabrica el perf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119640" y="2519280"/>
            <a:ext cx="30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áficos e imágenes relacionados con la idea del perf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1619280" y="3959280"/>
            <a:ext cx="3060720" cy="287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5759280" y="3780000"/>
            <a:ext cx="27943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3240000" y="-179280"/>
            <a:ext cx="6661080" cy="8101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360360" y="720720"/>
            <a:ext cx="2340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U DE TOIL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U DE PARF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800360" y="1074600"/>
            <a:ext cx="1990440" cy="19861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3780000" y="900000"/>
            <a:ext cx="430992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Arial"/>
              </a:rPr>
              <a:t>50ml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876240" y="3600360"/>
            <a:ext cx="8460000" cy="36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¿Qué significa este símbolo seguido de una cantid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2519280" y="552600"/>
            <a:ext cx="4654800" cy="3408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876240" y="4680000"/>
            <a:ext cx="8460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ódigo de barras: contiene información sobre el producto, según unas reglas, que puede leerse al escanear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3003480" y="900000"/>
            <a:ext cx="2936880" cy="2700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900000" y="4319640"/>
            <a:ext cx="846000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ímbolo del reciclaj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ica que el producto puede ser recicl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900000" y="1260360"/>
            <a:ext cx="846000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gredient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sde 2005, es necesario por ley en la UE incluir en la lista de ingredientes si el producto contiene alguno de los 26 alérgenos conocidos para perfumes </a:t>
            </a:r>
            <a:r>
              <a:rPr b="0" lang="en-GB" sz="4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es.paperblog.com/perfumes-obras-maestras-en-peligro-ii-368362/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1079640" y="944640"/>
            <a:ext cx="867564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Pensad además en lo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posibles nombres par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vuestros perfume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917640" y="3824280"/>
            <a:ext cx="376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MYSTIQU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619280" y="5400720"/>
            <a:ext cx="1755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VI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040360" y="5400720"/>
            <a:ext cx="3152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MAN-IA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59280" y="3824280"/>
            <a:ext cx="3749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JUST BE 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dro</dc:creator>
  <dc:description/>
  <dc:language>en-US</dc:language>
  <cp:lastModifiedBy>usuario</cp:lastModifiedBy>
  <dcterms:modified xsi:type="dcterms:W3CDTF">2011-05-08T21:15:31Z</dcterms:modified>
  <cp:revision>2</cp:revision>
  <dc:subject/>
  <dc:title>Diapositiva 1</dc:title>
</cp:coreProperties>
</file>